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554-988F-4FB6-89D0-7C8EFD2B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442-5772-4C6B-929C-49C58AAF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464-D70F-4BF6-A5CB-8203C871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898-4020-4F64-980F-E9DE6773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D9C-6FA2-4091-B7EE-96B0E8DC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C1D-3BA5-400B-8FAF-258D4B34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695-23E7-4A3F-BA73-30E49790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D27-DD63-4785-84AB-F02126D0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9C1-D8AD-4451-ABE2-429EC48B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D72-06B8-4B45-82B5-EFC8D997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424-2904-4455-B760-1A246719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5E1-2273-49A2-8DE7-7D0144A9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8AC8-B021-431D-B403-C714FC93EEF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18:05Z</dcterms:modified>
  <cp:revision>191</cp:revision>
  <dc:subject/>
  <dc:title>Normal Forms and Properties of CFLs</dc:title>
</cp:coreProperties>
</file>